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D97-A9AA-4088-BB98-C41E0F27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60E-1561-481B-8930-824885D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370-94C7-4F38-B899-890C21A3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EA6-D1B8-473C-AB1D-6DB14552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5445-FC57-4E36-B2C6-94C5982A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4998-ECDD-4F4E-B87A-EF90320D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6B5-48FC-4507-BB21-E79268E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E8C2-4F68-4AB8-AF1F-365F2A5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A49C-F697-4AD0-BA45-2ABA0435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B868-816F-4D7C-BAFC-A531D1B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B40A-30CE-40FC-BA14-FF436F6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7BF-2810-48BD-A6FC-40EEF43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B8A5-263A-4FDF-AD7A-4C63586F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11D-EACC-4945-B6C9-FEA44375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F005-9C71-4200-A382-77B82641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7B9-F5CE-4F3F-A52C-5C6F9D3A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BBDC-8A2A-452E-9082-E45BA6BD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7FA-0D7F-457A-B7B5-E4733FB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A25-6E6A-400D-BD82-2926654D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15D-39F5-4DA8-A3DD-B49919A0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461-1D59-4B98-9DD9-5C4E4D6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8EA-8527-4BC8-9F94-E76F3E4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610F-A476-422A-968B-F5B7FE9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1BE-E34F-42CC-AACF-E9FD9C5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BD7A-A349-4C3F-8069-5BEB02C7A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088F-B619-476F-8FA6-CF21436F3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l 4 schedules need to be described (initial described briefly / focused in more dep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es each schedule look lik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is it carried ou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environment are they carried out 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es the schedule tell yo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ability for the whole body to work continuously for a prolonged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ocal muscular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ability of muscles to work continu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. Flexibi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range of movement across a j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5. Strengt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The maximum force a muscle or group of muscles can exert in a single 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6. Pow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combination of power and sp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 we need for hocke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players nee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pee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pe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beat all opponents to the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drive past opponents with the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get forwards quickly to help in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get back quickly to help in def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last the duration of the g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o have the ability to pass, shoot, dribble and tackle throughout the game with goo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erent roles (positions) require different fitness demands, for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acker –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fender -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roughout your hockey block we will study in detail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e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rdio-respiratory 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0415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Homework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ue da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Monday 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ece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: Complete question on A4 lined pap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engths and weakness of your individual skill should provide the main body of the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swers need to be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one skill (the weakness you describe are the parts you developed in training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general – answered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finition of a model performer should be given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using them to compare – what will this allow you to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600"/>
            <a:ext cx="77724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Question 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ing sentence should include – skill needing improvement, stage of learning, duration and frequency of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has to be a focus – nobody mentioned thi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the practices – no need to describe them unless as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principles of effective practice did you app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est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Question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nitored using di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ypes and aspects of fit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Lesson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onday 30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Novem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erything we do in the preparation of the body course is linked to the cycle of analy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vestigat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aly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alu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1827360" cy="13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 types of sport specific fitness required for hocke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hysica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ill-related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ntal fi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e ar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6 aspect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physical fitn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pe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ability to cover a distance or perform a movement in a short period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7:41:24Z</dcterms:created>
  <dc:creator>Carrie Fleming</dc:creator>
  <dc:description/>
  <dc:language>en-US</dc:language>
  <cp:lastModifiedBy>FlemingC1</cp:lastModifiedBy>
  <dcterms:modified xsi:type="dcterms:W3CDTF">2009-11-30T11:01:43Z</dcterms:modified>
  <cp:revision>4</cp:revision>
  <dc:subject/>
  <dc:title>Preparation of the body</dc:title>
</cp:coreProperties>
</file>